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gif" ContentType="image/gif"/>
  <Override PartName="/ppt/media/image8.png" ContentType="image/png"/>
  <Override PartName="/ppt/media/image5.gif" ContentType="image/gif"/>
  <Override PartName="/ppt/media/image6.png" ContentType="image/png"/>
  <Override PartName="/ppt/media/image9.gif" ContentType="image/gif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CFD260-3DCB-4CA4-A1F7-9257D01237F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ECAB-4CA5-426B-80C2-4553AC1F3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2AB6-45EC-4F3C-8B49-21618551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4AB3-D306-483D-90FF-079267742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F78C-7A8D-4E32-9C44-20665B334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2EA1-DBD8-4829-AEF9-55BD05C6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2C7D-ECE6-44AF-AFD6-620A622C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98AC-359F-4349-BF42-B9D40DA6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C516-1B7E-4ACC-BC8B-07129FA8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78A3-F53A-4E1F-821C-14FE544E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A2CE-E1AB-4EAE-ACB7-F712DD3F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40F4-B93B-43A1-8A4B-9224E940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1315-3F4D-4A12-B384-FB2D2B11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29BA1C-80F0-48E5-B6F3-97F5282DE61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 LEÃO E O RATO</a:t>
            </a:r>
            <a:br>
              <a:rPr sz="44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ÁBULA - ESO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58680"/>
            <a:ext cx="90709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419640" y="1800360"/>
            <a:ext cx="6119640" cy="4859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9640" y="4140360"/>
            <a:ext cx="2874960" cy="2519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079640" y="2457360"/>
            <a:ext cx="180000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77800" y="1440000"/>
            <a:ext cx="4462560" cy="4481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119640" y="3600360"/>
            <a:ext cx="2340000" cy="21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 LEÃO E O RA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ra uma vez um enorme e feroz leão, que foi acordado por um ratinho minúsculo que passou correndo por cima do seu ros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 um belo salto o leão alcançou o rato e já ia matá-lo para fazer um lanchinho quando, mas o rato suplicou: "Por favor, Alteza-Real-Leão-Senhor-Majestade-Sultão! Por favor, não me mate! Se o senhor poupar a minha vida, tenho certeza de que poderei, um dia, retribuir sua bondade!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Leão achou tão engraçado um reles ratinho achar que poderia fazer-lhe um favor, que o soltou com uma enorme gargalha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940360" y="4680000"/>
            <a:ext cx="3600360" cy="25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 fill="hold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 fill="hold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tempo passou. O leão foi ficando cada vez mais gordo e mais lerdo até que, um dia, caiu numa rede colocada por caçadores. Por mais que tentasse, ele não conseguia se soltar e dava terríveis urros de raiv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contece que aquele ratinho, lá do início desta fábula, ouviu os gritos do leão e saiu correndo para ver o que havia acontecido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140360" y="4633920"/>
            <a:ext cx="4679640" cy="2565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425840" y="784080"/>
            <a:ext cx="152424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68360" y="3603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4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á chegando, o rato roeu rapidamente , as cordas que prendiam o grande feli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ndo o leão ficou livre, o ratinho diss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"Sua majestade achou ridícula a minha idéia de que um dia eu poderia lhe fazer um favor, não é? Pois aí está: sem a minha ajuda, ainda estaria preso. Agora, sabe que até um ratinho pode ser muito útil a um poderoso leão.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19280" y="4500720"/>
            <a:ext cx="4680000" cy="2700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056120" y="65736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060720" y="4319640"/>
            <a:ext cx="4087800" cy="2879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736640" y="2347920"/>
            <a:ext cx="6604200" cy="23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ff8100"/>
                </a:solidFill>
                <a:latin typeface="Arial"/>
              </a:rPr>
              <a:t>Moral da histó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"Os pequenos amigos podem se revelar seus grandes aliados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21:30:20Z</dcterms:created>
  <dc:creator/>
  <dc:description/>
  <dc:language>en-US</dc:language>
  <cp:lastModifiedBy/>
  <cp:revision>1</cp:revision>
  <dc:subject/>
  <dc:title/>
</cp:coreProperties>
</file>